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2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4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2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4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684A-BF04-4C17-A65E-0E46A9F57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B55A-D671-407E-BC06-7CF98EE3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874B7-CCAF-4CDB-AC2F-9F6DDE42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D7453-8C5C-468E-8058-F020FA22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1AC3-6749-422B-9B2A-C0043CD0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09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74FB-3FE2-4D50-AF41-3FC8A328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82F24-42C7-4A37-8438-8207BCAE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94EB0-C243-46EC-9755-D39B46AB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0EB7-0AE7-4E5B-9AB8-8B1A0968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F53C3-3B54-413B-862F-D28C2DEA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7EC5-2322-4DA4-83FA-A508022B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12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44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12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44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5BEA-206A-43BB-87EF-F1AF280989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09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2006    T.Tammet    Programmeerimine: 12  loeng 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C0505033-2ECA-4602-B8FB-4EF789F60B78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400" spc="-1" strike="noStrike">
                <a:solidFill>
                  <a:srgbClr val="000000"/>
                </a:solidFill>
                <a:latin typeface="Arial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400" spc="-1" strike="noStrike">
                <a:solidFill>
                  <a:srgbClr val="000000"/>
                </a:solidFill>
                <a:latin typeface="Arial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DF0DE-6350-4580-9256-52AF4214C15C}" type="slidenum">
              <a:rPr b="1" lang="en-GB" sz="1400" spc="-1" strike="noStrike">
                <a:solidFill>
                  <a:srgbClr val="000000"/>
                </a:solidFill>
                <a:latin typeface="Arial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nglish_draughts" TargetMode="External"/><Relationship Id="rId2" Type="http://schemas.openxmlformats.org/officeDocument/2006/relationships/hyperlink" Target="http://en.wikipedia.org/wiki/Checkers" TargetMode="External"/><Relationship Id="rId3" Type="http://schemas.openxmlformats.org/officeDocument/2006/relationships/hyperlink" Target="http://math.hws.edu/javanotes/c8/s5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20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s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I001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8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5634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idas sellist seisude puud kasutada?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2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eldame lihtsalt, e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in tahab teha käiku, mis annab kõige suurema headuse numbriga sei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stane tahab teha käiku, mis annab kõige väiksema headuse numbriga sei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g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st seisust valib masin käigu, mis on maksimum-headusega (masi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st seisust valib vastane käigu, mis on miinimum-headusega (masi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2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atame käikude puud sügavuseni N (näiteks N=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2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õige alumistel seisudel arvutame lihtsalt headuse vä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2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järel “tõstame” headuse numbreid ülespoo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3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5634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inimax algoritm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798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3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153640" cy="426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8040" y="546264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ata lisaks linki ja dem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ocf.berkeley.edu/~yosenl/extras/alphabeta/alphabeta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i heaks programmi saab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836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da sügavamat puud masin läbi jõuab vaadata, seda täpsemini ta käiku oskab vali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u läheb kiiresti väga suurek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les ca 30 käiku ühes seisu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mesel tasemel käike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isel tasemel käike 30*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lmandal tasemel käike 30*30*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-ndal tasemel käike 30 astmes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iekümnendal  tasemel oleks käike ca 30 astmes 50. See on rohkem, kui elementaarosakesi universumi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42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-5634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Umbes nii: teadmised ja kiirus ja mängu headus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798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4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381880" cy="4948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98080" y="4876920"/>
            <a:ext cx="10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Sei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hind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hea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6095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Kui suure puu jõuab läbi va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idas programmi parandada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6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 ole ühte head lahendust. On palju erinevaid nõks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äitek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eme seisu hindaja paremaks (programmi “targemaks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a siis läheb ta aeglasemaks 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ga jõuame vähem käike läbi vaa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amik nõkse on seotud käikude puu vähendamisega: ei ole vaja kogu puud läbi vaa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55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aiuti vs sügavuti ots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ks võimalus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sime puu läbi kiht-kih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sime puu läbi sügavuti, minnes algul vasakul maksimaalse sügavus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elistatakse sügavuti otsingut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älu vaja palju vä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ud eelised 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60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276720" cy="1714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3276720" cy="1714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2895480"/>
            <a:ext cx="2362320" cy="457200"/>
          </a:xfrm>
          <a:prstGeom prst="flowChartAlternateProcess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3505320"/>
            <a:ext cx="3276720" cy="609480"/>
          </a:xfrm>
          <a:prstGeom prst="flowChartAlternateProcess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323040" y="4724280"/>
            <a:ext cx="689040" cy="38124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89160" y="5334120"/>
            <a:ext cx="460440" cy="68580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399360" y="5562720"/>
            <a:ext cx="79200" cy="5331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1523880"/>
            <a:ext cx="1066680" cy="762120"/>
          </a:xfrm>
          <a:prstGeom prst="line">
            <a:avLst/>
          </a:prstGeom>
          <a:ln cap="rnd" w="25560">
            <a:solidFill>
              <a:srgbClr val="00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2362320"/>
            <a:ext cx="2210040" cy="2209680"/>
          </a:xfrm>
          <a:prstGeom prst="line">
            <a:avLst/>
          </a:prstGeom>
          <a:ln cap="rnd" w="25560">
            <a:solidFill>
              <a:srgbClr val="00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oodinäiteid: rekursiivne minimax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4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inimax(position p, int d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uct move list[MAXMOVES]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,n,bestvalue,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(checkwin(p)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p.color==WHITE) return -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return 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(d==0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evaluation(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(position.color==WHITE) bestvalue=-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bestvalue=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=makemovelist(p,list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(n==0) return handlenomove(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(i=0;i&lt;n;i++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omove(list[i],&amp;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alue=minimax(p,d-1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ndomove(list[i],&amp;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(position.color==WHIT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estvalue=max(value,bestvalue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estvalue=min(value,bestvalue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best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7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-5634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Üks esimesi universaalseid meetodeid: alpha-beta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798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7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81" name=""/>
          <p:cNvGraphicFramePr/>
          <p:nvPr/>
        </p:nvGraphicFramePr>
        <p:xfrm>
          <a:off x="838080" y="2362320"/>
          <a:ext cx="83059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83059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oodinäiteid: rekursiivsed negamax ja alpha-be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0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nt NegaMax (pos, depth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f (depth == 0) return Evaluate(po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best = -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ucc = Successors(po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hile (not Empty(succ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os = RemoveOne(succ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alue = -NegaMax(pos, depth-1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f (value &gt; best) best = 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b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nt AlphaBeta (pos, depth, alpha, bet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f (depth == 0) return Evaluate(po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best = -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ucc = Successors(po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hile (not Empty(succ) 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&amp;&amp; best &lt; beta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os = RemoveOne(succ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if (best &gt; alpha) alpha = b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value = -AlphaBeta(pos, depth-1, -beta, -alpha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f (value &gt; best) best = 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b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8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t lisaks demo!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ocf.berkeley.edu/~yosenl/extras/alphabeta/alphabeta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91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ängupuud ja mängude programmeeri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ssejuhatus viimasesse laboratoorsesse töösse: briti (ameerika) k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8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oteerimise nõks otsingu kiirendamisek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796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rteerida variandid seisust X enne otsingut ära: alustada tõenäoliselt paremate käikude proovimiseg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urendab tohutult alpha-beta efekt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idas sorteeri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ratiivne süvenemine. Teem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gul täisotsingu sügavuseni 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is uue täisotsingu sügavuseni 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is uue täisotsingu sügavuseni 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 jne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 kord kasutame eelmise otsingu tulemust sorteerimisek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96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uud standardnõksu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71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iller mo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: jätame otsides meelde eriti head käigu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i masinal kui vasta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ovime kõigepealt varasemast meelde jäetud eriti häid kä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iescence sear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: mõnda haru otsitakse sügavamal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bastabiilses seisus otsime sügavam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biilses seisus otsime vähem sügav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sime lõpuni kõik vahetused ja löö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ll-Move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mis siis, kui vastane saaks kaks käiku järjest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ovime nii, et vastane saab kaks käiku järj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i on meile OK tulemus, siis see on positiivne fa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i on meile halb tulemus, jätame meelde “killer mo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201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-5634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idas mõjub?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da sügavam puu, seda suurem mõju. Näitek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äikude puu sügavus vi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niMa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nda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4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4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pha-Beta: hindab          1,037,209 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-B + “killer moves”:           530,587 sei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äikude   puu sügavus seits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niMa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nda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       8,100,000,000 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pha-Beta: hindab           162,662,568 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-B + “killer moves”:           46,455,262 sei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0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-5634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äiendav idee: lõppmängude andmebaasid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dee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hitame hiiglasliku lõppmängu-seisude andmeba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gal lõppmängu-seisul on andmebaasis öeldud täpne “headus” (võit, viik, kao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hitamiseks: kõigepealt ühe nupuga lõppmängud, siis kahe nupuga lõppmängud, siis kolme nupuga lõppmängud j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õigepealt tehti seda 8x8 inglise kabes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inook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nathan Schaeffer, Robert Blak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ul Lu an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artin Brya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ity of Alberta: http://www.cs.ualberta.ca/~chinook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õigi seisude andmebaas, ku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 või vähem nup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kku ül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4,778,882,769,216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ügavad otsingud jõuavad tihti lõppmängu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dmebaasini, kus on juba sees täp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isuhinna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tsing seega mõlemast suunast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1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629400" y="3200400"/>
            <a:ext cx="2286000" cy="3143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419720" y="3352680"/>
            <a:ext cx="2057400" cy="457200"/>
          </a:xfrm>
          <a:prstGeom prst="line">
            <a:avLst/>
          </a:prstGeom>
          <a:ln cap="rnd" w="25560">
            <a:solidFill>
              <a:srgbClr val="00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-5634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aegune seis mängudega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hendatud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li nuppu ritta, Qubi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ine Man’s Morris, Go-M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w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ugevalt üle inimmängijate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be (8x8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nju (viis nuppu ritta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thello (Reversi), Scrabble, Backgam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ailmameistri tasemel 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l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hvusvaheline kabe (10x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ppmängija taseme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o (9x9), Hiina male, Bridzh, Pok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atööri tasemel 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o (19x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t ka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en.wikipedia.org/wiki/Solved_board_ga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1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2895480" cy="1909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324160" cy="2390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553080" y="2971800"/>
            <a:ext cx="2127240" cy="2133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819840" y="4295880"/>
            <a:ext cx="2324160" cy="225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 briti (ameerika) kabe koh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mi: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ers (draugh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eglid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n.wikipedia.org/wiki/English_draugh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ja üldiselt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n.wikipedia.org/wiki/Check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askood kasutamisek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õpikus lehel 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ath.hws.edu/javanotes/c8/s5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odud apleti osad, v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math.hws.edu/javanotes/source/Checkers.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sulikke linke lisaks eelmistel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cs.ualberta.ca/~chinook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227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õtlemis-võistlusmängude programmeerimin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s on ülesann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il on lauamäng (male, kabe vms), kus on kaks mängija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mbki tahab või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eme arvutiprogrammi, mis võtab seisu ette ja püüab leida võimalikult hea käigu sellest seisu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9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eidi ajalugu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1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ise maailmasõja paiku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an Turing tegi valmis maleprogrammi, aga tal ei olnud arvutit selle täitmiseks. Turing täitis programmi ise: paberi ja pliiatsi ab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ängis paar partiid: iga partii võttis hirmus kaua ae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40-1990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mid läksid aeglaselt paremaks, arvutid kiiremaks, aga tipp-inim-mängijad olid programmidest kõvasti parem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0-2000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mid hakkasid tipp-inim-mängijaid järjepanu võit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INOO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1994, 8x8 inglise kabe maailmame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ep Bl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1997, võitis Garry Kasparovit malemats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GISTELL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1997, võitis Othello (Reversi) maailmameistrit Takeshi Muraka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aegune se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tmete mängude (Go, Bridzh, ...) jaoks on inim-mängijad endiselt programmidest hulga pare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9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idas maleprogrammi teha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98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eme kõigepealt programmi, m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b se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eb seisu järgi mällu tabeli kõigist võimalikest käikudest selles sei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ei olegi nii väga keeruline 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les keerul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abes liht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llo (reversi) veel liht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is nuppu ritta: väga lih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üüd võib programm tabelist juhusliku käigu vali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 juba mängibki!   Kuigi kehvasti .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0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idas programmi veidi paremaks teha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9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eme eraldi väikese programmi, m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õtab seisu et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Ütleb umbes, kui hea seis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isu “headus” on number, mille meie programm arvu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uidas öelda “kui hea”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hel lihtne: kaotus / võit/ ei kumb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rid:          1         -1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rulisem: “harilik maleseis”.  Kumbalgi pole võitu ega kaot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0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eisu hindamin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erulisem olukord: harilik malesei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ja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me kokku meie ja vastase nup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pp annab 10 punkti, vanker 6, 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sio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me kokku eelviimasel real etturid masinal/inime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me kokku tsentriväljadel olevad etturid masinal/inime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me kokku, mitmele tsentriväljale masin/inimene tuld ann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atame üle kuninga kaitse tugev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 jne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okku saame seisu headuse numbr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ina materjal – inimese materjal + masina positsioon – inimese positsi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1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is edasi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78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üüd on meil kõigi käikude tabel, iga käigu juures arvutame tekkiva seisu headuse numbr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ime kõige parema tulemuse (maksimumi numbritest!) andva käigu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 hakkab veidi paremini mängima, ag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kka mängib väga kehvast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ks? Sest meie seisu headuse hindamise programm on nig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idas headuse hindamist parand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omulikult tuleks vaadata, mis käike vastane võib peale meie käike teha! Ja kuidas meie võime vastata. J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1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õimalike käikude puu trips-traps-trulli näit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2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858000" cy="557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cp:revision>0</cp:revision>
  <dc:subject/>
  <dc:title> </dc:title>
</cp:coreProperties>
</file>